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FC4-834A-4706-8F87-6EB98A9A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74C-1FF7-493B-8F60-6A4784ED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D6E5-BDE3-4342-8AA9-260591A2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A3A-ABB3-43A4-A650-9F21E819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123-38CF-4173-B7EB-F29812DF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071-E3E8-4833-B5A5-23854F7A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2B4-7D20-4E6B-9F2F-251072F6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4D5-E5E3-41B3-AD73-D5760F63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DBA-9BB5-4E70-A213-93B8246C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5C23-7B00-4243-BED0-CA63BA0E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7AE-3AF0-4AE1-9DEE-DBAFE097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D6F-E618-413D-AA7A-B6846C71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42EE-2782-42CB-9DEB-6EE8A306A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SAVE THE TES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e father of all g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457200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52680" y="-3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66720" y="1142640"/>
            <a:ext cx="4343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s of these </a:t>
            </a:r>
            <a:r>
              <a:rPr b="1" lang="en-US" sz="6000" spc="-1" strike="noStrike">
                <a:solidFill>
                  <a:srgbClr val="3333cc"/>
                </a:solidFill>
                <a:latin typeface="Highlight LET"/>
              </a:rPr>
              <a:t>fantastic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nds are locat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 the groin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every father, or potential fathe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558960" cy="43434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876920" y="4495680"/>
            <a:ext cx="3504960" cy="2133720"/>
            <a:chOff x="4876920" y="4495680"/>
            <a:chExt cx="3504960" cy="2133720"/>
          </a:xfrm>
        </p:grpSpPr>
        <p:sp>
          <p:nvSpPr>
            <p:cNvPr id="48" name=""/>
            <p:cNvSpPr/>
            <p:nvPr/>
          </p:nvSpPr>
          <p:spPr>
            <a:xfrm>
              <a:off x="4876920" y="4495680"/>
              <a:ext cx="3504960" cy="213372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6934320" y="4572000"/>
              <a:ext cx="140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029200" y="4800600"/>
              <a:ext cx="1905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 testes will mean no more cute happy kid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09480" y="2438280"/>
            <a:ext cx="1371600" cy="1067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mones Produc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stosteron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cle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ir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rm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05520" y="2743200"/>
            <a:ext cx="334008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SH and LH produced by the pituitary start testosterone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enough testosterone reaches the pituitary, it stops producing FSH and L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2340000" cy="5105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10849200">
            <a:off x="5625360" y="1141200"/>
            <a:ext cx="685800" cy="3047760"/>
          </a:xfrm>
          <a:custGeom>
            <a:avLst/>
            <a:gdLst>
              <a:gd name="textAreaLeft" fmla="*/ 91800 w 685800"/>
              <a:gd name="textAreaRight" fmla="*/ 594000 w 685800"/>
              <a:gd name="textAreaTop" fmla="*/ 533160 h 3047760"/>
              <a:gd name="textAreaBottom" fmla="*/ 220968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3047988"/>
                <a:lnTo>
                  <a:pt x="15671" y="21310"/>
                </a:lnTo>
                <a:lnTo>
                  <a:pt x="21600" y="17280"/>
                </a:lnTo>
                <a:lnTo>
                  <a:pt x="15671" y="12670"/>
                </a:lnTo>
                <a:lnTo>
                  <a:pt x="15671" y="14830"/>
                </a:lnTo>
                <a:arcTo wR="21600" hR="7560" stAng="7752012" swAng="269055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rget Cells Have Recep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ells with the appropriate receptor molecules will respond to testoster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osterone then activates certain genes insid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52005" t="0" r="0" b="0"/>
          <a:stretch/>
        </p:blipFill>
        <p:spPr>
          <a:xfrm>
            <a:off x="5029200" y="457200"/>
            <a:ext cx="3852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t should st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estes = No testosterone or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876920" y="2743200"/>
            <a:ext cx="4038480" cy="2770920"/>
            <a:chOff x="4876920" y="2743200"/>
            <a:chExt cx="4038480" cy="2770920"/>
          </a:xfrm>
        </p:grpSpPr>
        <p:sp>
          <p:nvSpPr>
            <p:cNvPr id="65" name=""/>
            <p:cNvSpPr/>
            <p:nvPr/>
          </p:nvSpPr>
          <p:spPr>
            <a:xfrm>
              <a:off x="5486400" y="2743200"/>
              <a:ext cx="1143000" cy="1447920"/>
            </a:xfrm>
            <a:prstGeom prst="downArrow">
              <a:avLst>
                <a:gd name="adj1" fmla="val 50000"/>
                <a:gd name="adj2" fmla="val 3166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4191120"/>
              <a:ext cx="40384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o manly featu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o more childr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4419720" cy="2968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19320" y="5029200"/>
            <a:ext cx="22096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3:25:49Z</dcterms:created>
  <dc:creator>dthomas</dc:creator>
  <dc:description/>
  <dc:language>en-US</dc:language>
  <cp:lastModifiedBy>FCSD</cp:lastModifiedBy>
  <dcterms:modified xsi:type="dcterms:W3CDTF">2008-05-13T13:32:30Z</dcterms:modified>
  <cp:revision>14</cp:revision>
  <dc:subject/>
  <dc:title>SAVE THE TESTES</dc:title>
</cp:coreProperties>
</file>